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D96A-F468-4CFA-97F1-647569D5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15E-BCB4-4B2F-B774-6DC5A06C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8351-1145-4D54-803E-249C0A2C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0BC-54A2-498B-869F-FFA30D0A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0A48-1502-49C0-8736-A17115C0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6C2-1B39-4B09-BAB6-2CA62497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C5F-D830-4572-94CA-0BE95F09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B8B-3FA2-4EA0-B165-82844798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C01-25C8-42D9-A6AA-D9E80A3A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3D7-C9DA-4A95-A211-D7586802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F57-24E8-40D6-8FDB-34415FED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BB4B-CD4D-4C85-919B-FCD0A663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E539-A28C-4A0F-9D4A-1B9EAEFE1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5:  Beast from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2133720"/>
            <a:ext cx="67816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is chapter, respond to the following slides on your hand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 Predict (1-2 sentences) what do you think this chapter is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#9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at does Simon think is the B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10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at  does Ralph have the assembly vote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ttom of Page 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11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age 9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iggy wants Ralph to blow the conch and have Jack and the hunters come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Ralph is worried that if he does blow the conch, that they won’t come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were to advise Ralph, would you tell him to b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  Blow the Co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 Let the hunters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12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at MIGHT be Golding foreshadowing in Piggy’s spee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93:  Use the separate handout for this answ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 know about people.  I know about me. And him. He can’t hurt you: but if you stand out of the way he’d hurt the next thing.  And that’s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13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as your prediction right from question #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#2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ow does Ralph feel about island living after a few weeks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2895480"/>
            <a:ext cx="7543800" cy="33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76-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Focus on the last paragraph on page 76 and the top of page 77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#3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In what way does Ralph realize he needs Pig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209320"/>
            <a:ext cx="80773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Ralph moved impatiently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# 3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List 3 things that Ralph tells the boys they need to work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79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o you think Ralph is having fun being the lea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#4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y is that fire SO important to Ral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ook at us! How many are we?  And yet we can’t keep a fire going to make smoke.  Don’t you understand? Can’t you see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we ought to—ought to die before we let the fire out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#5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at “beast” is Piggy afraid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83-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scuss:  What “beast” would you be afraid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6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(it’s an easy one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Which boy sneak out into the forest at n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#7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ow did Maurice get the littluns to STOP cry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#8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at is Ralph d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ttom of Page 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He could see a whiteness in the gloom near him so he grabbed it from Maurice and blew as loudly as he cou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18:41Z</dcterms:created>
  <dc:creator>BPS</dc:creator>
  <dc:description/>
  <dc:language>en-US</dc:language>
  <cp:lastModifiedBy>BPS</cp:lastModifiedBy>
  <dcterms:modified xsi:type="dcterms:W3CDTF">2011-03-24T23:57:19Z</dcterms:modified>
  <cp:revision>24</cp:revision>
  <dc:subject/>
  <dc:title>Chapter 5:  Beast from Water</dc:title>
</cp:coreProperties>
</file>